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png" ContentType="image/pn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3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1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2509-0B7C-4400-8BDE-AED10DDF19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CA39-C25E-48DB-A8DB-0733F5522E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FE8E-D765-49FB-A18D-73E6F497F9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DE6D-8028-44C9-AF50-420CD6B72E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6D52-8FA5-4688-AF1B-9C285667ADA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D2B4-F28E-426E-980B-E4940074FC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4A88-968D-4A77-ABD9-F4AAF9882C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4909-ABEF-4ACD-A731-C63AD9EB4E2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B32E-3065-4F44-A7EF-9534739D20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5429-27FC-4AB8-943E-D549AC2A7D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A50F-2BC0-42C7-8C02-63E9BE57098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7E3A-E488-4C09-96E1-737B0AC42BE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34FE-9FA7-4EB2-9B3D-C01574A571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3A69-DD6D-4952-8B8B-6617FD82AC8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14E4-8B61-4A69-9F36-F92116A460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8271-B537-4CBC-92BB-4F86F141C5B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B902-1726-4E14-A523-A36CA161A1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8923-4AD4-4B71-BDD7-38C675094E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2B86-0F92-407B-90CE-36A329015D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91CD-1925-4A32-A7C0-04D2A9715E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7C65-C980-4C44-BC47-49628D7AF48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6860-9373-4729-9790-CB0C3B48F77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F90D-FF64-4535-8A00-12E81D3F59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A8F7-74A0-4E51-A384-DC35CC2E02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0582-D03C-4AA8-8F4E-61D2A3B99D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C2B3-1C3E-47E5-974C-83C83ABEF2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ECB7-0738-4A01-8E88-7D224C45DD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3112-1D4F-4D2C-A266-F94BB084722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FEF1-2FC0-455E-9851-0954A872DD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F141-37EF-41CC-BFC0-FE7FA03A4C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9CF8-F6E2-4AA9-A122-7A901F4460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1827-9130-4DCB-A646-A5DBD70AF8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409E-58BF-4F2C-BA41-44CAD09DB8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E944-5AEA-4067-9CB2-5B8165A9A0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2529-6BB5-4982-88E1-DB974DD4F1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C10E-345D-44C3-BBB1-093201F7D7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1D11-4376-44C2-8899-06FD5C48B0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EFE-C983-4B0C-8705-86DA41FF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5121-D52F-42B5-8B64-FD5573AC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C9C0-D70D-482B-AE33-FB2581BE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02C-8A66-4A8C-AAEB-80889000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0DE4-278F-4CDB-B09C-95E00E3A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9166-6E12-4B2A-85E3-2E48668F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DFF5-D948-4DE8-90F9-71932005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D61C-6856-45E2-8832-20E1E4EC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42B2-DC13-447F-A128-D749CEEA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6399-C728-4559-9053-E7F0C7CC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F258-8E26-400F-B9B8-76618C9E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40F-BCA9-45FC-BB4B-E9B75A17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E881-5743-4707-809C-D8342D19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DE74-84C6-4973-BC2C-F78431E9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4611-F0D4-43C7-A6F2-2F9E5EAF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A547-A199-437D-AD70-E71BA070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1926-71F5-4716-918E-191511AE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06D-B9B1-4F8F-945C-DD684B79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8F3-0402-4BC7-8231-B5280413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195-8470-404B-9BF9-C377C414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462-74A4-4986-A75B-BE340EBE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FD1-075B-4D09-9265-A7A05A8D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0EA-2E09-4E26-94F4-A91808A7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19B-346F-4CC2-87A5-B42C374B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6476-865C-47B1-ABC7-56856558B64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096C-C4B9-4292-B3F0-DC2FF281673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Arial"/>
              </a:rPr>
              <a:t>Tema 3: Anatomía y fisiología del Aparato Digestivo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max-boca"/>
          <p:cNvPicPr/>
          <p:nvPr/>
        </p:nvPicPr>
        <p:blipFill>
          <a:blip r:embed="rId1"/>
          <a:srcRect l="29397" t="4725" r="0" b="4725"/>
          <a:stretch/>
        </p:blipFill>
        <p:spPr>
          <a:xfrm>
            <a:off x="755640" y="3213000"/>
            <a:ext cx="3027240" cy="345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11"/>
          <p:cNvGraphicFramePr/>
          <p:nvPr/>
        </p:nvGraphicFramePr>
        <p:xfrm>
          <a:off x="4427640" y="3284640"/>
          <a:ext cx="345744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3284640"/>
                    <a:ext cx="345744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El proceso de la deglució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Arial"/>
              </a:rPr>
              <a:t>Fase or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roceso voluntario. La lengua comprime el bolo contra el paladar y lo empuja hacia atr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Arial"/>
              </a:rPr>
              <a:t>Fase farínge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Acto refle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aladar blando se eleva y cierra la cavidad na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piglotis desciende y cierra la tráqu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inicia un movimiento peristáltico que impulsa el bolo hacia la fari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deglucion"/>
          <p:cNvPicPr/>
          <p:nvPr/>
        </p:nvPicPr>
        <p:blipFill>
          <a:blip r:embed="rId1"/>
          <a:stretch/>
        </p:blipFill>
        <p:spPr>
          <a:xfrm>
            <a:off x="4356000" y="1593720"/>
            <a:ext cx="460872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Atragantamient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538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objetivo es despejar las vías respiratorias obstruidas por un cuerpo extr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mprime con el puño por debajo del esternón, hacia dentro y hacia arri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 no tiene éxito, puede ser necesaria una traqueotom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sheim"/>
          <p:cNvPicPr/>
          <p:nvPr/>
        </p:nvPicPr>
        <p:blipFill>
          <a:blip r:embed="rId1"/>
          <a:srcRect l="0" t="0" r="0" b="5980"/>
          <a:stretch/>
        </p:blipFill>
        <p:spPr>
          <a:xfrm>
            <a:off x="5219640" y="404640"/>
            <a:ext cx="365148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Ingestión: Farin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ubo musculoso común a los aparatos digestivo y respirato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unica c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boc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 través del istmo de las fau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esóf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fosas nasa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 través de las co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laring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 través de la glo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oído medi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 través de las trompas de Eustaqu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Farin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tracto_respiratorio_superior"/>
          <p:cNvPicPr/>
          <p:nvPr/>
        </p:nvPicPr>
        <p:blipFill>
          <a:blip r:embed="rId1"/>
          <a:stretch/>
        </p:blipFill>
        <p:spPr>
          <a:xfrm>
            <a:off x="1619280" y="1390680"/>
            <a:ext cx="5977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Ingestión: Esófag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ubo muscular de unos 30 cm que comunica la faringe con el estóm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iende por detrás de la tráquea y del coraz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raviesa el diafragma por el hiato esofá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ne dos esfínteres, uno superior y otro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Esófago"/>
          <p:cNvPicPr/>
          <p:nvPr/>
        </p:nvPicPr>
        <p:blipFill>
          <a:blip r:embed="rId1"/>
          <a:stretch/>
        </p:blipFill>
        <p:spPr>
          <a:xfrm>
            <a:off x="0" y="177336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Esófago: Histolog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apa muco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pitelio plano pluriestratificado no queratin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apa submuco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tejido conjun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apa muscula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álulas musculares lisas perimetrales y longitudinales, responsables de movimientos peristál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apa adventi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tejido conjun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esofago"/>
          <p:cNvPicPr/>
          <p:nvPr/>
        </p:nvPicPr>
        <p:blipFill>
          <a:blip r:embed="rId1"/>
          <a:stretch/>
        </p:blipFill>
        <p:spPr>
          <a:xfrm>
            <a:off x="4427640" y="2421000"/>
            <a:ext cx="42480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Esófago: Ondas peristálti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ndas de contracción de la musculatura li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mpujan el bolo hacia el estóm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esofago2"/>
          <p:cNvPicPr/>
          <p:nvPr/>
        </p:nvPicPr>
        <p:blipFill>
          <a:blip r:embed="rId1"/>
          <a:stretch/>
        </p:blipFill>
        <p:spPr>
          <a:xfrm>
            <a:off x="673200" y="1797120"/>
            <a:ext cx="37591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Digestión: El estómag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241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te dilatada del tubo digestivo donde se completa la digestión mecánica y continúa la digestión quí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bolo alimenticio se transforma en una papilla llamada </a:t>
            </a: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qu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sfinter pilórico regula el vaciado gást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estomago"/>
          <p:cNvPicPr/>
          <p:nvPr/>
        </p:nvPicPr>
        <p:blipFill>
          <a:blip r:embed="rId1"/>
          <a:stretch/>
        </p:blipFill>
        <p:spPr>
          <a:xfrm>
            <a:off x="3995640" y="1844640"/>
            <a:ext cx="49690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Estómago: histolog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6" descr="estomago2"/>
          <p:cNvPicPr/>
          <p:nvPr/>
        </p:nvPicPr>
        <p:blipFill>
          <a:blip r:embed="rId1"/>
          <a:stretch/>
        </p:blipFill>
        <p:spPr>
          <a:xfrm>
            <a:off x="539640" y="1386000"/>
            <a:ext cx="806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Estómago: glándulas gástri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cuatro tipos de célul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princip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sinóge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n contacto con el ácido clorhídrico se transforma 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nzima que degrada las proteínas. En el antro pilórico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lipasa gástr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actúa sobre algunos líp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pariet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ácido clorhídr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muco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mucos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tectora de la pared del estóm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gastr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hormona que estimula la secreción de ácido clorhídr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Etapas del proceso digestiv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Ingest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os alimentos son triturados por los dientes y mezclados con la sal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Digest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as enzimas de los jugos descomponen los nutrientes en moléculas más senci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Absor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as moléculas sencillas atraviesan las paredes del tubo y son transportadas por la sang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Asimil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as células utilizan los nutrientes para obtener energía o fabricar nuevas moléc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Defec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as sustancias no digeridas o no absorbidas son eliminadas por el 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Digestión: Intestino del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curre la mayor parte de la digestión enzimática y casi toda la absor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 tubo arrollado, de unos siete metros de longitud y de algo más de dos centímetros y medio de diámet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intestino delgado se subdivide en </a:t>
            </a:r>
            <a:r>
              <a:rPr b="1" lang="es-ES" sz="2000" spc="-1" strike="noStrike">
                <a:solidFill>
                  <a:srgbClr val="800080"/>
                </a:solidFill>
                <a:latin typeface="Arial"/>
              </a:rPr>
              <a:t>duode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000" spc="-1" strike="noStrike">
                <a:solidFill>
                  <a:srgbClr val="800080"/>
                </a:solidFill>
                <a:latin typeface="Arial"/>
              </a:rPr>
              <a:t>yeyu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s-ES" sz="2000" spc="-1" strike="noStrike">
                <a:solidFill>
                  <a:srgbClr val="800080"/>
                </a:solidFill>
                <a:latin typeface="Arial"/>
              </a:rPr>
              <a:t>íleo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que se continúa con el intestino grueso por medio de la </a:t>
            </a:r>
            <a:r>
              <a:rPr b="1" lang="es-ES" sz="2000" spc="-1" strike="noStrike">
                <a:solidFill>
                  <a:srgbClr val="800080"/>
                </a:solidFill>
                <a:latin typeface="Arial"/>
              </a:rPr>
              <a:t>válvula ileocec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intdelgado2"/>
          <p:cNvPicPr/>
          <p:nvPr/>
        </p:nvPicPr>
        <p:blipFill>
          <a:blip r:embed="rId1"/>
          <a:stretch/>
        </p:blipFill>
        <p:spPr>
          <a:xfrm>
            <a:off x="4643280" y="1484280"/>
            <a:ext cx="37864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Intestino delgado: digestión quím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0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il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pancreát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vierten en el duodeno a través de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ampolla de Vat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donde se mezclan con el qui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glándulas intestinales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intdelgado_ampolla_Vater"/>
          <p:cNvPicPr/>
          <p:nvPr/>
        </p:nvPicPr>
        <p:blipFill>
          <a:blip r:embed="rId1"/>
          <a:stretch/>
        </p:blipFill>
        <p:spPr>
          <a:xfrm>
            <a:off x="4211640" y="1733400"/>
            <a:ext cx="49323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Vellosidades intestin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7" descr="microvell"/>
          <p:cNvPicPr/>
          <p:nvPr/>
        </p:nvPicPr>
        <p:blipFill>
          <a:blip r:embed="rId1"/>
          <a:stretch/>
        </p:blipFill>
        <p:spPr>
          <a:xfrm>
            <a:off x="4932360" y="2421000"/>
            <a:ext cx="3598920" cy="2590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intdelgado_vellosidades"/>
          <p:cNvPicPr/>
          <p:nvPr/>
        </p:nvPicPr>
        <p:blipFill>
          <a:blip r:embed="rId2"/>
          <a:stretch/>
        </p:blipFill>
        <p:spPr>
          <a:xfrm>
            <a:off x="0" y="1413000"/>
            <a:ext cx="6156360" cy="51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Digestión: El hí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higado"/>
          <p:cNvPicPr/>
          <p:nvPr/>
        </p:nvPicPr>
        <p:blipFill>
          <a:blip r:embed="rId1"/>
          <a:stretch/>
        </p:blipFill>
        <p:spPr>
          <a:xfrm>
            <a:off x="468360" y="1413000"/>
            <a:ext cx="4195800" cy="4249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lándula más grande del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so 1,5 kg (sin sang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or rojo osc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istencia bl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vidido en 4 lóbu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zquier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rec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ud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dr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Hí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314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ibe sangre de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ena por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procedente del intestino (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aporta nutrient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ibe sangre de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arteria hep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aporta oxíge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venas de los lobulillos confluyen en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ena hep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lleva sangre a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ava inferio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higadocirculacion"/>
          <p:cNvPicPr/>
          <p:nvPr/>
        </p:nvPicPr>
        <p:blipFill>
          <a:blip r:embed="rId1"/>
          <a:stretch/>
        </p:blipFill>
        <p:spPr>
          <a:xfrm>
            <a:off x="4067280" y="2022480"/>
            <a:ext cx="50767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Hí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ituido por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lobulillos hepát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hexagonales co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hepatoci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lrededor de una vena cent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 ellos hay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espacios por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triangulares,  una rama de la arteria hepática, una rama de la vena porta, un capilar linfático y un conductillo biliar, que recoge la 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il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roducida por los hepatocitos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lobulillo hepatico 2"/>
          <p:cNvPicPr/>
          <p:nvPr/>
        </p:nvPicPr>
        <p:blipFill>
          <a:blip r:embed="rId1"/>
          <a:stretch/>
        </p:blipFill>
        <p:spPr>
          <a:xfrm>
            <a:off x="4932360" y="404640"/>
            <a:ext cx="3887640" cy="2770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higado parenquima hepatico"/>
          <p:cNvPicPr/>
          <p:nvPr/>
        </p:nvPicPr>
        <p:blipFill>
          <a:blip r:embed="rId2"/>
          <a:stretch/>
        </p:blipFill>
        <p:spPr>
          <a:xfrm>
            <a:off x="5148360" y="3284640"/>
            <a:ext cx="3168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Hígado: fun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cre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bil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los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glúci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glucólisis, glucogenólisis y gluconeogéne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los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lípi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síntesis de colesterol y lipoproteí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proteí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imina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toxina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hormo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íntesis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factores de coagul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ósito de muchas sustancias (hierro, vitaminas, 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iminación de eritrocitos envejecidos por las </a:t>
            </a:r>
            <a:r>
              <a:rPr b="0" lang="es-ES" sz="2200" spc="-1" strike="noStrike">
                <a:solidFill>
                  <a:srgbClr val="800080"/>
                </a:solidFill>
                <a:latin typeface="Arial"/>
              </a:rPr>
              <a:t>células de Kup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ctiva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vitamina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ormación y excre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bilirrubin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por degradación de la hemoglob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Hígado y vesícula bilia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95640" y="1600200"/>
            <a:ext cx="453888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000" spc="-1" strike="noStrike">
                <a:solidFill>
                  <a:srgbClr val="cc9900"/>
                </a:solidFill>
                <a:latin typeface="Arial"/>
              </a:rPr>
              <a:t>bili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mulsiona las grasas, neutraliza la acidez del quimo, y favorece la absorción de los ácidos gra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iene sales biliares, proteínas, colesterol y hormonas, además de pigmentos de color verdoso (bilirrubi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producida por los hepatocitos, vierte a los </a:t>
            </a:r>
            <a:r>
              <a:rPr b="0" lang="es-ES" sz="2000" spc="-1" strike="noStrike">
                <a:solidFill>
                  <a:srgbClr val="800080"/>
                </a:solidFill>
                <a:latin typeface="Arial"/>
              </a:rPr>
              <a:t>canalículos bilia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que desembocan en los </a:t>
            </a:r>
            <a:r>
              <a:rPr b="0" lang="es-ES" sz="2000" spc="-1" strike="noStrike">
                <a:solidFill>
                  <a:srgbClr val="800080"/>
                </a:solidFill>
                <a:latin typeface="Arial"/>
              </a:rPr>
              <a:t>conductos bili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almacena temporalmente en la </a:t>
            </a:r>
            <a:r>
              <a:rPr b="0" lang="es-ES" sz="2000" spc="-1" strike="noStrike">
                <a:solidFill>
                  <a:srgbClr val="800080"/>
                </a:solidFill>
                <a:latin typeface="Arial"/>
              </a:rPr>
              <a:t>vesícula bil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liberada cuando el alimento llega al duod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higado_vesicula"/>
          <p:cNvPicPr/>
          <p:nvPr/>
        </p:nvPicPr>
        <p:blipFill>
          <a:blip r:embed="rId1"/>
          <a:stretch/>
        </p:blipFill>
        <p:spPr>
          <a:xfrm>
            <a:off x="468360" y="2205000"/>
            <a:ext cx="33224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Digestión: El páncre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Croquis_p_ncreas"/>
          <p:cNvPicPr/>
          <p:nvPr/>
        </p:nvPicPr>
        <p:blipFill>
          <a:blip r:embed="rId1"/>
          <a:stretch/>
        </p:blipFill>
        <p:spPr>
          <a:xfrm>
            <a:off x="1403280" y="1413000"/>
            <a:ext cx="597708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Páncre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675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rgano de forma cónica, de unos 25 cm de longitud y 5 de gro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lándula mixta: lo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islotes de Langerha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insul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glucag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regulan el metabolismo de los glú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o glándula exocrina fabric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pancreá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pancreas_Langerhans"/>
          <p:cNvPicPr/>
          <p:nvPr/>
        </p:nvPicPr>
        <p:blipFill>
          <a:blip r:embed="rId1"/>
          <a:srcRect l="0" t="0" r="0" b="15533"/>
          <a:stretch/>
        </p:blipFill>
        <p:spPr>
          <a:xfrm>
            <a:off x="4211640" y="1916280"/>
            <a:ext cx="4392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El aparato digestiv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00360" y="1599840"/>
            <a:ext cx="403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Arial"/>
              </a:rPr>
              <a:t>Tub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11 metros de largo, desde la boca hasta el 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vidad bu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óf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óm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estino del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estino Gru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Arial"/>
              </a:rPr>
              <a:t>Glándulas ane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lándulas saliv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ánc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lándulas gás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lándulas intesti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tubo digestivo"/>
          <p:cNvPicPr/>
          <p:nvPr/>
        </p:nvPicPr>
        <p:blipFill>
          <a:blip r:embed="rId1"/>
          <a:stretch/>
        </p:blipFill>
        <p:spPr>
          <a:xfrm>
            <a:off x="1116000" y="1413000"/>
            <a:ext cx="32036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Páncreas: el jugo pancreátic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enzimas: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amilasa pancre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lipasa pancre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tri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quimotri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tida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nucleasas pancreátic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bicarbona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lega al duodeno a través del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onducto de Wirsun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se une al colédoco y desemboca en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ampolla de V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 también u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onducto acces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pancreas"/>
          <p:cNvPicPr/>
          <p:nvPr/>
        </p:nvPicPr>
        <p:blipFill>
          <a:blip r:embed="rId1"/>
          <a:stretch/>
        </p:blipFill>
        <p:spPr>
          <a:xfrm>
            <a:off x="4211640" y="1768320"/>
            <a:ext cx="4932360" cy="39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Absorción: intestino del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so de sustancias desde el tubo digestivo hacia la sangre y la linf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ariamente se absorben 9 litros de agua que contienen 500 g de nutr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nutrientes penetran en los capilares sanguíneos y confluyen en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ena por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los lleva al hí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grasas penetran en lo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asos quilífer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pasan a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red linf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vellosidades y microvellosidades intestinales proporcionan una superficie de absorción de 30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Vellosidades intestin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microvell"/>
          <p:cNvPicPr/>
          <p:nvPr/>
        </p:nvPicPr>
        <p:blipFill>
          <a:blip r:embed="rId1"/>
          <a:stretch/>
        </p:blipFill>
        <p:spPr>
          <a:xfrm>
            <a:off x="4932360" y="2421000"/>
            <a:ext cx="3598920" cy="2590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intdelgado_vellosidades"/>
          <p:cNvPicPr/>
          <p:nvPr/>
        </p:nvPicPr>
        <p:blipFill>
          <a:blip r:embed="rId2"/>
          <a:stretch/>
        </p:blipFill>
        <p:spPr>
          <a:xfrm>
            <a:off x="0" y="1413000"/>
            <a:ext cx="6156360" cy="51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Intestino grues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,5 m de longitud y 6,5 cm de diá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él se produce absorción d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agu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iones inorgán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y formación y eliminación d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heces fe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abundante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flora bacteria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fermenta residuos no digeridos, y sintetiz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vitaminas K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Intestino Grueso"/>
          <p:cNvPicPr/>
          <p:nvPr/>
        </p:nvPicPr>
        <p:blipFill>
          <a:blip r:embed="rId1"/>
          <a:stretch/>
        </p:blipFill>
        <p:spPr>
          <a:xfrm>
            <a:off x="647640" y="2048040"/>
            <a:ext cx="38102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Intestino grues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6" descr="igruesoa2"/>
          <p:cNvPicPr/>
          <p:nvPr/>
        </p:nvPicPr>
        <p:blipFill>
          <a:blip r:embed="rId1"/>
          <a:stretch/>
        </p:blipFill>
        <p:spPr>
          <a:xfrm>
            <a:off x="1619280" y="1413000"/>
            <a:ext cx="590688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Heces fec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1068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adas por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restos de alimen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no absorbidos (celulosa)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célul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l epitelio intestinal,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acteri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testi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ta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olo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aracterístico debido a la fermentación pútrida de las prote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for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pende del tiempo que pasan en el 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escala_heces"/>
          <p:cNvPicPr/>
          <p:nvPr/>
        </p:nvPicPr>
        <p:blipFill>
          <a:blip r:embed="rId1"/>
          <a:stretch/>
        </p:blipFill>
        <p:spPr>
          <a:xfrm>
            <a:off x="4781520" y="1413000"/>
            <a:ext cx="36511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Regulación del proceso digestiv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gulación nervio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ediante el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sistema nervioso entér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Regula la actividad del músculo liso y de las glándulas que segregan en é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ibras nerviosas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simpá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parasimpá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ctiva o inhiben la función diges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gulación hormon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ediante hormonas tisulares: </a:t>
            </a:r>
            <a:r>
              <a:rPr b="0" lang="es-ES" sz="2800" spc="-1" strike="noStrike">
                <a:solidFill>
                  <a:srgbClr val="cc9900"/>
                </a:solidFill>
                <a:latin typeface="Arial"/>
              </a:rPr>
              <a:t>gastr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tómago), </a:t>
            </a:r>
            <a:r>
              <a:rPr b="0" lang="es-ES" sz="2800" spc="-1" strike="noStrike">
                <a:solidFill>
                  <a:srgbClr val="cc9900"/>
                </a:solidFill>
                <a:latin typeface="Arial"/>
              </a:rPr>
              <a:t>secret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800" spc="-1" strike="noStrike">
                <a:solidFill>
                  <a:srgbClr val="cc9900"/>
                </a:solidFill>
                <a:latin typeface="Arial"/>
              </a:rPr>
              <a:t>colecistoquin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intestino delg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Ingestión: Cavidad buc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43640" y="1628640"/>
            <a:ext cx="22320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en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lándulas saliv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stmo de las f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ígda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Boca_o_cavidad_bucal24"/>
          <p:cNvPicPr/>
          <p:nvPr/>
        </p:nvPicPr>
        <p:blipFill>
          <a:blip r:embed="rId1"/>
          <a:stretch/>
        </p:blipFill>
        <p:spPr>
          <a:xfrm>
            <a:off x="468360" y="1868400"/>
            <a:ext cx="59752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Lengu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45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Órgano musculoso, muy mó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rviene en la mast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rviene en la deg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Órgano del gu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lengua"/>
          <p:cNvPicPr/>
          <p:nvPr/>
        </p:nvPicPr>
        <p:blipFill>
          <a:blip r:embed="rId1"/>
          <a:stretch/>
        </p:blipFill>
        <p:spPr>
          <a:xfrm>
            <a:off x="3963960" y="1700280"/>
            <a:ext cx="518004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Lengua: Papilas gustativ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3672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pilas filiform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Más abundantes, no poseen botones gus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pilas fungiform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Más numerosas en la pu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pilas caliciform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Forman V invertida en la base de la len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dos últimas tienen botones gust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Papila_gustativa"/>
          <p:cNvPicPr/>
          <p:nvPr/>
        </p:nvPicPr>
        <p:blipFill>
          <a:blip r:embed="rId1"/>
          <a:stretch/>
        </p:blipFill>
        <p:spPr>
          <a:xfrm>
            <a:off x="4140360" y="2178000"/>
            <a:ext cx="44640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Dien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79640" y="1599840"/>
            <a:ext cx="295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ruc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aíz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uel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cis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ni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emol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ol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FIG3-04_DIENTES Y TIPOS"/>
          <p:cNvPicPr/>
          <p:nvPr/>
        </p:nvPicPr>
        <p:blipFill>
          <a:blip r:embed="rId1"/>
          <a:stretch/>
        </p:blipFill>
        <p:spPr>
          <a:xfrm>
            <a:off x="609480" y="1790640"/>
            <a:ext cx="461016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Dien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88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ntición de leche: 20 piez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ntición adulta: 32 pi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FIG3-05_DENTADURA INFANTIL Y ADULTA"/>
          <p:cNvPicPr/>
          <p:nvPr/>
        </p:nvPicPr>
        <p:blipFill>
          <a:blip r:embed="rId1"/>
          <a:stretch/>
        </p:blipFill>
        <p:spPr>
          <a:xfrm>
            <a:off x="4013280" y="404640"/>
            <a:ext cx="48895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Glándulas saliva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58920" y="155700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rótid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Bajo la oreja. Vierten junto al segundo molar sup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ubmaxilar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Bajo la base de la len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ublingu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ncima de la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aliv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ntiene amilasa (degrada almidón) y lipasa lingual (degrada grasas), agua, sales, lisozima (bactericida) y mucina (lubrican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Glándulas de la cabeza y el cuello"/>
          <p:cNvPicPr/>
          <p:nvPr/>
        </p:nvPicPr>
        <p:blipFill>
          <a:blip r:embed="rId1"/>
          <a:srcRect l="2835" t="0" r="2835" b="0"/>
          <a:stretch/>
        </p:blipFill>
        <p:spPr>
          <a:xfrm>
            <a:off x="395280" y="1773360"/>
            <a:ext cx="4464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7:09:14Z</dcterms:created>
  <dc:creator>Dani</dc:creator>
  <dc:description/>
  <dc:language>en-US</dc:language>
  <cp:lastModifiedBy>inma</cp:lastModifiedBy>
  <dcterms:modified xsi:type="dcterms:W3CDTF">2014-10-29T19:26:56Z</dcterms:modified>
  <cp:revision>24</cp:revision>
  <dc:subject/>
  <dc:title>Tema 3: Anatomía y fisiología del Aparato Digestivo</dc:title>
</cp:coreProperties>
</file>